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82CBBE-8EDD-41B2-9BF0-985EA28C7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F506B4-BFE0-4BEC-B84F-55A3D83C9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193650-B958-47DF-88CB-B9A4DA7F7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854CEA-2472-4C49-9D04-3DA283096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EB499F-F1C4-400D-BB2D-76C4A04A9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4E457A-7DF0-4A98-B379-8624634B6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877454-F7BB-4E01-A1FA-390603987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52C3DB-E4E9-4870-BBA7-ACCB9D7F8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C29FB2-0321-42D9-814B-84A8F5539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777D98-A9BC-4F40-BE33-FB3ED3164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5642-CE3C-435F-BB07-8BBECA759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5FFFE-EA68-4CE9-BB03-939137FB3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A29EB-87D2-4AFA-8333-F596AC688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460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84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460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84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E821-E266-44C9-BFB0-4B64EA791B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013A4-728D-4D58-B230-B83E21FECA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CCF8E-3951-48FB-ACD0-A98D6A2CF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EF41-471D-4BD2-9BF6-4B583D382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EA2B4-04F8-4169-B578-8FCDB3233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E096-B871-4704-98BC-D91551235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D24C-8FCF-459A-A2E6-02D86C744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FCF5F-2ED8-4A02-80E2-2C1B2FB6F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1D3F-CA72-4D51-8A12-48623E5EF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160"/>
            <a:ext cx="684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9B828572-0C4C-4127-83C9-11853A7DE2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8981068C-F972-43D2-8243-4F1D02CB3C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000" y="1523880"/>
            <a:ext cx="746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 beaucoup d’autres verbes utiles, le verb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fai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do, to m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st irr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égulier au prés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914400" y="2971800"/>
            <a:ext cx="7315200" cy="2054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1295280" y="5181480"/>
            <a:ext cx="6858000" cy="8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C804F388-2C66-4DF8-8FB1-6ABB5E6BC9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6400800" cy="29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B92F9F1C-29B0-4C43-BBB4-5E434053F1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z le verb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f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es expressions idiomatiques suivantes. Observez que sa traduction en anglais n’est pas toujou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m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398600" y="2635200"/>
            <a:ext cx="6345360" cy="37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184FDBBD-4CBE-4DB0-9FDD-76DCBD79C7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6581880" cy="24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DDF542E4-68BA-4D35-AC7A-E5EF259A0F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180504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d il y en a un, apprenez l’article qu’il faut utiliser dans les expression avec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f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Si ces expressions exigent un partitif ou un article indéfini, cet article est remplacé par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une phrase nég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066680" y="3710160"/>
            <a:ext cx="712008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A3DAC637-2B3C-433A-9845-EC265DFE93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4000" y="1814400"/>
            <a:ext cx="7926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z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faire la connaissance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ant le nom d’une personne ou tout autre nom qui identifie une person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295280" y="3186000"/>
            <a:ext cx="67820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3146FE7F-DDEF-4F76-BBD5-FF36AD6846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180972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L’expression “</a:t>
            </a:r>
            <a:r>
              <a:rPr b="1" i="1" lang="en-US" sz="2400" spc="-1" strike="noStrike">
                <a:solidFill>
                  <a:srgbClr val="ff8000"/>
                </a:solidFill>
                <a:latin typeface="Arial"/>
              </a:rPr>
              <a:t>il fau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1436760" y="2495520"/>
            <a:ext cx="627048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1CB363C0-838C-48F9-8E99-3B6E3EA92F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4360" y="180504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d elle est suivie par un verbe à l’infinitif, l’expressio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il faut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is necessary to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mus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523880" y="3557520"/>
            <a:ext cx="6248520" cy="20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59D97A64-DA6D-4488-A785-185FFC376D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552600" y="1371600"/>
            <a:ext cx="8048520" cy="5106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762120" y="2514600"/>
            <a:ext cx="7621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__________ tes devoirs le samedi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 ne __________ pas attention au professe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__________ du camp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s __________ du jogg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__________ une promenade au par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__________ du ski en montag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__________ de l’aérobi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s __________ un tour en voi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-ce que vous __________ la cuisin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ne __________ pas de spor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14400" y="1600200"/>
            <a:ext cx="7356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171468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létez chaque phrase avec la form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recte du verbe </a:t>
            </a:r>
            <a:r>
              <a:rPr b="1" lang="en-US" sz="2100" spc="-1" strike="noStrike">
                <a:solidFill>
                  <a:srgbClr val="000000"/>
                </a:solidFill>
                <a:latin typeface="Arial Black"/>
              </a:rPr>
              <a:t>fair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u prése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828800" y="2462040"/>
            <a:ext cx="762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fai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4:53:13Z</dcterms:created>
  <dc:creator>© 2011 Vista Higher Learning. All rights reserved.</dc:creator>
  <dc:description/>
  <cp:keywords/>
  <dc:language>en-US</dc:language>
  <cp:lastModifiedBy>Viviane Grebert</cp:lastModifiedBy>
  <dcterms:modified xsi:type="dcterms:W3CDTF">2011-09-17T19:27:29Z</dcterms:modified>
  <cp:revision>35</cp:revision>
  <dc:subject>Espaces: Rendez-vous avec le monde francophone, Second Edition</dc:subject>
  <dc:title>Unité 5: Les loisirs</dc:title>
</cp:coreProperties>
</file>